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E8F-8BDB-4726-B6D1-2EB48B9D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755-9B57-4CC7-A15D-47E834AB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896-BF49-4F25-BAE4-EBFD9778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780-CF8B-436D-935B-BB960A9F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98F-9822-4249-9422-3BA585D7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7CC-656A-4A4B-AE67-526A1C11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435-DF82-4D2F-B71C-A9392E8D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540-AA35-476A-A050-33A7539B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84F-E0F2-46DA-9AFE-12C56DF0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C9C-7FE8-4A94-A0BD-20F304B6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3D4-D4E9-46A3-A8ED-984F3E4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3FC-4512-4B8E-B522-561571F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17C-CB8C-4BCB-8F0D-C50E812C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058800">
            <a:off x="1371600" y="5181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Ge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38862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4419720"/>
            <a:ext cx="1214280" cy="1214280"/>
          </a:xfrm>
          <a:prstGeom prst="diamond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442800">
            <a:off x="4190760" y="556236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Bright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4572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rt &amp;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133720"/>
            <a:ext cx="7162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Computer drawings inspired by the works of artist Paul Klee and his use of Geometry, Bright Colors and Primitive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0584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360" y="504720"/>
            <a:ext cx="912528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480" y="542880"/>
            <a:ext cx="907704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6160" y="619200"/>
            <a:ext cx="759168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360" y="447840"/>
            <a:ext cx="9125280" cy="59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360" y="447840"/>
            <a:ext cx="9125280" cy="59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480" y="514440"/>
            <a:ext cx="907704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62160" y="1319040"/>
            <a:ext cx="6619680" cy="42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480" y="738360"/>
            <a:ext cx="8915400" cy="53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852480"/>
            <a:ext cx="731520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480" y="738360"/>
            <a:ext cx="8915400" cy="53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9360" y="299880"/>
            <a:ext cx="9162720" cy="625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360" y="504720"/>
            <a:ext cx="912528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160" y="542880"/>
            <a:ext cx="906768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160" y="542880"/>
            <a:ext cx="9067680" cy="57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360" y="533520"/>
            <a:ext cx="912528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480" y="561960"/>
            <a:ext cx="891540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571680"/>
            <a:ext cx="89913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7:40:06Z</dcterms:created>
  <dc:creator>St. Jude School</dc:creator>
  <dc:description/>
  <dc:language>en-US</dc:language>
  <cp:lastModifiedBy>Patrick J. Mooney</cp:lastModifiedBy>
  <dcterms:modified xsi:type="dcterms:W3CDTF">2010-05-15T00:18:44Z</dcterms:modified>
  <cp:revision>10</cp:revision>
  <dc:subject/>
  <dc:title>Paul Klee</dc:title>
</cp:coreProperties>
</file>